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7F5B-074A-4460-9007-C7E97D0ECDF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C58E-99AD-4CAA-B4F2-B1F651CA8AF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549000" y="4560840"/>
            <a:ext cx="5832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974A-4ACE-4B36-838D-24C94B5004F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68587-F923-4C15-8EB9-83A7BCFF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D7742-9441-499F-B9C6-D46E23D6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54CFF0-2593-41C5-904E-BBDB2C4F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EF7BD-D7FC-4E0D-B238-D8B22178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0C4B0-EA6A-4081-A021-CB88B2CD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A36B4-26F0-46D3-93B5-9173BA4E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CB692-C7E4-4E8F-9B7D-3A86967D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AC0E3-B5A7-4FAB-8C16-0B0CEC1A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686DA-4714-4B82-B6E3-78F2B3220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A6320-6904-4637-8570-433BD7D0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5267B-3611-44ED-81BB-A9CBA366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89B03-3B86-4EC8-B608-BD370737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71361-E51C-4487-8ADB-4551FB28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37D06-C2C4-4F8D-B207-5D5541D0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8F4A4F-C493-4723-B8F0-6016F4D6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4244C-1E8B-4CC0-BE63-9BEA24AE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930D3-5539-4879-A22F-FE168F73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3A44B-9C6A-4E8E-B734-C69DD832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3F15B-E075-4B6E-9B22-B87BEC06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A7E84-0605-4004-9128-2FEB4E0B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B00BA-3707-4A92-85FA-A48E733C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B8D8A-2EF6-4FF3-A22D-5DB6FD6E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13935-4AF5-44FF-9614-20FA21D0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E3BA3-894A-486F-B34E-4ACA6A14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AEF0C-A546-4120-8178-7461C60C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63020-16B6-4A36-83D0-721CFE53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BCB09-15FA-48D8-8114-1F9EC02C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E28BDB-7430-45F3-B978-647E2532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8D87E-DE55-4FB4-8DAA-5CE6A94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56088-B9E6-4DC6-B9DA-FAE185B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4D11-2500-4C78-B92F-A5797603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AB72F-A3EC-48A6-BB64-11254453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B3589-9314-4249-A8FA-0880436B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1BA07-4BE1-4006-8B28-C6F11AA7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CBFEA0-CFA3-40A1-93FB-BEF50533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7EC59-084E-4188-A945-B466985B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509B0-1DE3-4C93-A6AC-3CF59982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B2788-4793-46F0-BBA9-77149C59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8FB4C-18A5-4CD7-8F05-E930C748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0071B-4B2E-4A22-91F1-DBA99EC3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421EF-680C-4C32-AAF1-07E3FB85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C54-8E4B-4F1C-B865-B3A006B2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153CB-8135-4A12-BEBB-95AFAA34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A2E473-17A9-4182-AE52-EFEBEA80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15ACE-925F-4215-A859-7279EE22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F2EDB3-A6EC-405C-8F1E-940A0B8C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8DA36-4431-4CFC-90E8-567F3D92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A14-2BD9-4C1A-AF17-A707C24B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2E03-12F4-4AE4-A806-44204C87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91E6-08DA-40E4-AF6C-E03010EF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440-B1B0-4605-9EBE-7FD74E96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BF0-BA74-4715-A1D6-E2552AF6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0CA0-D603-402B-B445-74040F82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A1DC-BB2B-40D7-8CE5-C707CFB1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4A63-9DCA-4444-AFC2-BB8E1B59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CDF-C950-4B00-ABA0-2626B230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CD3-ECAA-4CDA-96DA-6AACD7F1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8313-5063-400C-AC42-BC0D4533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BC3D-4434-4FD7-B906-B47CE300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50F5-5E0A-4C16-ABB6-A3DFE31C1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D422-0904-41D4-B5D8-5FB5CDF7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B405-9B17-44BD-A819-00AF7CC0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F79A-EE30-405B-8844-5E6B4566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4B28-92E7-423B-83BD-CB8FD36A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2A39-5476-425F-81C0-BB31F9AD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CAD7-7B01-4BDB-BD5B-40C3F568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1E1F-6535-4D0C-8FDC-A5D39640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F243-67C7-4ACE-901D-F2CD94DC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34EC-118E-4317-B2FA-B90D7838B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E0F8-16B2-4F4A-BFD9-11853329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36E4E-0B0A-41FF-B4B6-CC29C68E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7B35C-F02D-43D7-BA81-0050C807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97F9B-8C69-46A3-A048-C93785E2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2D6E-4CB0-414F-87F0-C1C7E05D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D8D03-BFC2-4CAC-8171-0FD61FC7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FD31B-5BFD-4976-BD68-30292E02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9E83-C969-47DA-B0F7-5B18E180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1A1F2-66F4-4E9B-BCA8-E873D81B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68DDC-D6AD-46A9-88A1-978266F2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5F8E-A83F-4EB9-8522-35169E16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D7572-C988-43F8-9F8D-E1BBC8D3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8C57C-6AFC-45F3-80C6-96790072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0DF92-C66C-4327-8967-6E36C404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82643-0C07-492E-9556-D1271BAA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FB00C-842C-4B2C-A78C-966A64C0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D623-1CF5-4982-B0BE-0B2006AB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3A676-0E21-4FA5-B741-3623F125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EEEEA-DE68-499C-9638-66E90831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B4FC-47ED-4483-A0F7-CD54B58D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9E2DE-E41A-4FC0-9022-1ADCAF8E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AF951-8A44-4665-A530-AF88F3D8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68458-0E9B-4A18-854C-2C2034475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3ADA8-2DC3-4009-BD25-7D4C284D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5718F-CDE7-4096-A081-5691C377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FE50B-A87A-4ABA-BB86-6A13D756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C07E3-FD40-4791-A3F5-E374302B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461D0-DE56-42B7-9420-AF1FDDFB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7A2F3-9CC9-453A-8129-16FA1DD3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94229-205F-49E4-9516-31371B78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9A33B-822A-44B8-B642-AC989BAA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CD03F-08E9-4A1C-B1FA-9A71562B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912B0-0CD1-4013-8DF9-002EE384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8560F-48B6-4EDD-9401-AEBB67A4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E56DB-1981-4E4D-A64C-DB84D956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55F79-6FCC-403E-B2A7-00C53697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BB5083-D010-4737-AE20-DB27F7D0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91497-AE75-4AF2-BEC5-58215FE8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28FE5-6715-4FA7-845B-27954A79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872E1-1A60-40EE-A6DE-188C5EB8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C8AC7-16AD-4BFA-910B-75F555EF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68C6F-3929-4741-9C87-A532DF01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E5A88-18D9-49E6-9676-1C3954AD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5C4C1-EAAF-49B0-A3D7-0A6DC06E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54184-8F4E-4D5C-98B2-A587BA7D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7054E-4837-40EE-9419-539BD55D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7F8B6-A285-4D60-AA90-A301C265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B36AE-DF24-4CA2-8C53-50B53339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D212C-D0E4-433A-968F-9C5FB104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DB1BB-20A7-4BA2-9DC2-0FB1958B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CC09B-1D98-4BBB-A125-7897137E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7369F-47BC-45B5-9A6D-1DDE4241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46247-8E53-4B6D-9A8E-213A6771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748F8-365E-4C80-BF1E-78306F06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16F20-144E-4753-AD09-43FC0209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899F2-1E15-42A4-8EB3-6A6A2233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110BE-6701-40E6-B79A-21D16E1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04F1E-A810-4E53-ABB9-F613110E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F100B-BF00-46F1-A250-70256224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01784-0DC1-47B2-A515-8CE7D18C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C9B1D-BB8A-4450-9E1C-11471CBA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38CBE-20FD-4B14-B9F6-CF101AB9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60B61-F46F-4AE0-8E79-F26E2685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F040-5E1D-4C3A-A3AF-4FF60F85F253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AD9E-1B2E-48B3-B5CB-070A84ABE175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814E-BA09-4AD6-A15B-E83E692D724F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88B9-7EF2-4F7F-9D73-96B75C17805D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76E5-0E66-4A2F-9EBF-06EC9290BADC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1EE4-414E-4AE3-A454-122723ADC9B3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BF0F-3998-4CFE-BBF9-99E52181B712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2D96-7F99-40F6-A751-8F62F458D738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AC0A7-632D-43FE-8C44-7AD35397A706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AF41-0908-44D1-8B68-39DA92FDAC50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32FB-3BFC-4F20-8AAE-8121CCBED4B4}" type="slidenum"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edda_suaste@hotmail.com" TargetMode="External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1 Título"/>
          <p:cNvSpPr/>
          <p:nvPr/>
        </p:nvSpPr>
        <p:spPr>
          <a:xfrm>
            <a:off x="357120" y="2214720"/>
            <a:ext cx="8429760" cy="34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alifornian FB"/>
              </a:rPr>
              <a:t>SUBSISTEMA EPIDEMIOLÓGICO Y ESTADÍSTICO DE LAS DEFUNCION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alifornian FB"/>
              </a:rPr>
              <a:t>(SE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428760" y="1143000"/>
            <a:ext cx="814392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fornian FB"/>
              </a:rPr>
              <a:t>     </a:t>
            </a:r>
            <a:r>
              <a:rPr b="1" lang="es-ES" sz="2400" spc="-1" strike="noStrike">
                <a:solidFill>
                  <a:srgbClr val="990000"/>
                </a:solidFill>
                <a:latin typeface="Californian FB"/>
              </a:rPr>
              <a:t>OBJETIV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fornian FB"/>
              </a:rPr>
              <a:t>        </a:t>
            </a:r>
            <a:r>
              <a:rPr b="0" lang="es-MX" sz="2400" spc="-1" strike="noStrike">
                <a:solidFill>
                  <a:srgbClr val="000000"/>
                </a:solidFill>
                <a:latin typeface="Californian FB"/>
              </a:rPr>
              <a:t>Integrar la información de mortalidad del país con la oportunidad y calidad que el sector salud lo requiere, a fin de constituir un marco confiable para la vigilancia epidemiológica, la planeación, asignación de recursos y evaluación de los servici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142920" y="285840"/>
            <a:ext cx="8572320" cy="13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25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5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fornian FB"/>
              </a:rPr>
              <a:t>FORMATOS FU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500"/>
              </a:lnSpc>
              <a:spcAft>
                <a:spcPts val="601"/>
              </a:spcAft>
              <a:buClr>
                <a:srgbClr val="9900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fornian FB"/>
              </a:rPr>
              <a:t>Certificado de Defunción y Certificado de Muerte F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2 Imagen" descr="Escanear0001_F.jpg"/>
          <p:cNvPicPr/>
          <p:nvPr/>
        </p:nvPicPr>
        <p:blipFill>
          <a:blip r:embed="rId1"/>
          <a:stretch/>
        </p:blipFill>
        <p:spPr>
          <a:xfrm>
            <a:off x="714240" y="1843200"/>
            <a:ext cx="3357720" cy="4657680"/>
          </a:xfrm>
          <a:prstGeom prst="rect">
            <a:avLst/>
          </a:prstGeom>
          <a:ln w="0">
            <a:noFill/>
          </a:ln>
        </p:spPr>
      </p:pic>
      <p:grpSp>
        <p:nvGrpSpPr>
          <p:cNvPr id="500" name="4 Grupo"/>
          <p:cNvGrpSpPr/>
          <p:nvPr/>
        </p:nvGrpSpPr>
        <p:grpSpPr>
          <a:xfrm>
            <a:off x="4572000" y="1857240"/>
            <a:ext cx="3357720" cy="4643640"/>
            <a:chOff x="4572000" y="1857240"/>
            <a:chExt cx="3357720" cy="4643640"/>
          </a:xfrm>
        </p:grpSpPr>
        <p:pic>
          <p:nvPicPr>
            <p:cNvPr id="501" name="5 Imagen" descr="SANDRA4.JPG"/>
            <p:cNvPicPr/>
            <p:nvPr/>
          </p:nvPicPr>
          <p:blipFill>
            <a:blip r:embed="rId2"/>
            <a:srcRect l="0" t="19794" r="0" b="27081"/>
            <a:stretch/>
          </p:blipFill>
          <p:spPr>
            <a:xfrm>
              <a:off x="4572000" y="4287600"/>
              <a:ext cx="3357720" cy="22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6 Imagen" descr="fatima 2 001.JPG"/>
            <p:cNvPicPr/>
            <p:nvPr/>
          </p:nvPicPr>
          <p:blipFill>
            <a:blip r:embed="rId3"/>
            <a:srcRect l="0" t="5212" r="0" b="36460"/>
            <a:stretch/>
          </p:blipFill>
          <p:spPr>
            <a:xfrm>
              <a:off x="4572000" y="1857240"/>
              <a:ext cx="3357720" cy="243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642960" y="2143080"/>
            <a:ext cx="803736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2500"/>
              </a:lnSpc>
              <a:spcAft>
                <a:spcPts val="13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fornian FB"/>
              </a:rPr>
              <a:t>IMPLEMENTACIÓN DEL SISTEMA : </a:t>
            </a:r>
            <a:r>
              <a:rPr b="0" lang="es-ES" sz="2400" spc="-1" strike="noStrike">
                <a:solidFill>
                  <a:srgbClr val="000000"/>
                </a:solidFill>
                <a:latin typeface="Californian FB"/>
              </a:rPr>
              <a:t>1997 para Defunciones Generales y 2004 para Muertes Fe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"/>
          <p:cNvSpPr/>
          <p:nvPr/>
        </p:nvSpPr>
        <p:spPr>
          <a:xfrm>
            <a:off x="642960" y="3406680"/>
            <a:ext cx="8037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2500"/>
              </a:lnSpc>
              <a:spcAft>
                <a:spcPts val="13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fornian FB"/>
              </a:rPr>
              <a:t>NIVEL DE INTEGRACIÓN: </a:t>
            </a:r>
            <a:r>
              <a:rPr b="0" lang="es-ES" sz="2400" spc="-1" strike="noStrike">
                <a:solidFill>
                  <a:srgbClr val="000000"/>
                </a:solidFill>
                <a:latin typeface="Californian FB"/>
              </a:rPr>
              <a:t>Desde el nivel municipal y por medio del Registro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"/>
          <p:cNvSpPr/>
          <p:nvPr/>
        </p:nvSpPr>
        <p:spPr>
          <a:xfrm>
            <a:off x="695160" y="4643280"/>
            <a:ext cx="8091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2500"/>
              </a:lnSpc>
              <a:spcAft>
                <a:spcPts val="13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fornian FB"/>
              </a:rPr>
              <a:t>COBERTURA: </a:t>
            </a:r>
            <a:r>
              <a:rPr b="0" lang="es-ES" sz="2400" spc="-1" strike="noStrike">
                <a:solidFill>
                  <a:srgbClr val="000000"/>
                </a:solidFill>
                <a:latin typeface="Californian FB"/>
              </a:rPr>
              <a:t>Nacional, Sectorial y de ocurrencia fuera de una unidad mé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644400" y="5621400"/>
            <a:ext cx="83566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500"/>
              </a:lnSpc>
              <a:spcAft>
                <a:spcPts val="13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fornian FB"/>
              </a:rPr>
              <a:t>DISPONIBILIDAD: </a:t>
            </a:r>
            <a:r>
              <a:rPr b="0" lang="es-ES" sz="2400" spc="-1" strike="noStrike">
                <a:solidFill>
                  <a:srgbClr val="000000"/>
                </a:solidFill>
                <a:latin typeface="Californian FB"/>
              </a:rPr>
              <a:t>Cortes Mens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"/>
          <p:cNvSpPr/>
          <p:nvPr/>
        </p:nvSpPr>
        <p:spPr>
          <a:xfrm>
            <a:off x="642960" y="928800"/>
            <a:ext cx="81439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2500"/>
              </a:lnSpc>
              <a:spcAft>
                <a:spcPts val="13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fornian FB"/>
              </a:rPr>
              <a:t>IMPLEMENTACION DE LOS CERTIFICADOS : </a:t>
            </a:r>
            <a:r>
              <a:rPr b="0" lang="es-ES" sz="2400" spc="-1" strike="noStrike">
                <a:solidFill>
                  <a:srgbClr val="000000"/>
                </a:solidFill>
                <a:latin typeface="Californian FB"/>
              </a:rPr>
              <a:t>En 1988, en el Estado de Queréta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4 Imagen" descr=""/>
          <p:cNvPicPr/>
          <p:nvPr/>
        </p:nvPicPr>
        <p:blipFill>
          <a:blip r:embed="rId1"/>
          <a:stretch/>
        </p:blipFill>
        <p:spPr>
          <a:xfrm>
            <a:off x="282600" y="1357200"/>
            <a:ext cx="8790120" cy="531036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2"/>
          <p:cNvSpPr/>
          <p:nvPr/>
        </p:nvSpPr>
        <p:spPr>
          <a:xfrm>
            <a:off x="0" y="785880"/>
            <a:ext cx="85010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699"/>
              </a:lnSpc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fornian FB"/>
              </a:rPr>
              <a:t>PROCESO DE INTEGR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0" y="785880"/>
            <a:ext cx="9144000" cy="29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299"/>
              </a:lnSpc>
              <a:spcBef>
                <a:spcPts val="601"/>
              </a:spcBef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fornian FB"/>
              </a:rPr>
              <a:t>INFORMACIÓN CAPTAD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99"/>
              </a:lnSpc>
              <a:spcBef>
                <a:spcPts val="601"/>
              </a:spcBef>
              <a:spcAft>
                <a:spcPts val="1800"/>
              </a:spcAft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fornian FB"/>
                <a:ea typeface="Arial"/>
              </a:rPr>
              <a:t>Datos del Fallecido.– </a:t>
            </a:r>
            <a:r>
              <a:rPr b="0" lang="es-ES" sz="2000" spc="-1" strike="noStrike">
                <a:solidFill>
                  <a:srgbClr val="000000"/>
                </a:solidFill>
                <a:latin typeface="Californian FB"/>
                <a:ea typeface="Arial"/>
              </a:rPr>
              <a:t>Información </a:t>
            </a:r>
            <a:r>
              <a:rPr b="0" lang="es-MX" sz="2000" spc="-1" strike="noStrike">
                <a:solidFill>
                  <a:srgbClr val="000000"/>
                </a:solidFill>
                <a:latin typeface="Californian FB"/>
                <a:ea typeface="Arial"/>
              </a:rPr>
              <a:t>sociodemográfica y de afiliación a los servicios de sal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99"/>
              </a:lnSpc>
              <a:spcBef>
                <a:spcPts val="601"/>
              </a:spcBef>
              <a:spcAft>
                <a:spcPts val="1800"/>
              </a:spcAft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fornian FB"/>
                <a:ea typeface="Arial"/>
              </a:rPr>
              <a:t>Datos de la Defunción.– </a:t>
            </a:r>
            <a:r>
              <a:rPr b="0" lang="es-ES" sz="2000" spc="-1" strike="noStrike">
                <a:solidFill>
                  <a:srgbClr val="000000"/>
                </a:solidFill>
                <a:latin typeface="Californian FB"/>
                <a:ea typeface="Arial"/>
              </a:rPr>
              <a:t>Sitio/Fecha/Hora de ocurrencia, causas de defunción, apartado para mujeres en edad fér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99"/>
              </a:lnSpc>
              <a:spcBef>
                <a:spcPts val="601"/>
              </a:spcBef>
              <a:spcAft>
                <a:spcPts val="1800"/>
              </a:spcAft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fornian FB"/>
                <a:ea typeface="Arial"/>
              </a:rPr>
              <a:t>Información sobre muertes accidentales y violentas.</a:t>
            </a:r>
            <a:r>
              <a:rPr b="0" lang="es-MX" sz="2000" spc="-1" strike="noStrike">
                <a:solidFill>
                  <a:srgbClr val="000000"/>
                </a:solidFill>
                <a:latin typeface="Californian FB"/>
                <a:ea typeface="Arial"/>
              </a:rPr>
              <a:t>– Presunción y descripción detallada de los hech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"/>
          <p:cNvSpPr/>
          <p:nvPr/>
        </p:nvSpPr>
        <p:spPr>
          <a:xfrm>
            <a:off x="-71280" y="3786120"/>
            <a:ext cx="885816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ts val="2299"/>
              </a:lnSpc>
              <a:spcBef>
                <a:spcPts val="601"/>
              </a:spcBef>
              <a:spcAft>
                <a:spcPts val="1800"/>
              </a:spcAft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fornian FB"/>
                <a:ea typeface="Arial"/>
              </a:rPr>
              <a:t>Datos del Informante.– </a:t>
            </a:r>
            <a:r>
              <a:rPr b="0" lang="es-ES" sz="2000" spc="-1" strike="noStrike">
                <a:solidFill>
                  <a:srgbClr val="000000"/>
                </a:solidFill>
                <a:latin typeface="Californian FB"/>
                <a:ea typeface="Arial"/>
              </a:rPr>
              <a:t>Identificación de la persona que proporciona la información sobre el fallecido y la defu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ts val="2299"/>
              </a:lnSpc>
              <a:spcBef>
                <a:spcPts val="601"/>
              </a:spcBef>
              <a:spcAft>
                <a:spcPts val="1800"/>
              </a:spcAft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fornian FB"/>
                <a:ea typeface="Arial"/>
              </a:rPr>
              <a:t>Datos del Certificante.– </a:t>
            </a:r>
            <a:r>
              <a:rPr b="0" lang="es-MX" sz="2000" spc="-1" strike="noStrike">
                <a:solidFill>
                  <a:srgbClr val="000000"/>
                </a:solidFill>
                <a:latin typeface="Californian FB"/>
                <a:ea typeface="Arial"/>
              </a:rPr>
              <a:t>Identificación de la persona que da fe de lo asentado en el Certificado de Defu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ts val="2299"/>
              </a:lnSpc>
              <a:spcBef>
                <a:spcPts val="601"/>
              </a:spcBef>
              <a:spcAft>
                <a:spcPts val="1800"/>
              </a:spcAft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fornian FB"/>
                <a:ea typeface="Arial"/>
              </a:rPr>
              <a:t>Datos del Registro Civil.</a:t>
            </a:r>
            <a:r>
              <a:rPr b="0" lang="es-MX" sz="2000" spc="-1" strike="noStrike">
                <a:solidFill>
                  <a:srgbClr val="000000"/>
                </a:solidFill>
                <a:latin typeface="Californian FB"/>
                <a:ea typeface="Arial"/>
              </a:rPr>
              <a:t>– Información que vincula el Certificado con el Registro Oficial de la defunción (expedición del Acta de Defun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285840" y="1071720"/>
            <a:ext cx="8501040" cy="52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ts val="2699"/>
              </a:lnSpc>
              <a:spcAft>
                <a:spcPts val="1599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fornian FB"/>
              </a:rPr>
              <a:t>INFORMACIÓN PROPORCIONADA: </a:t>
            </a:r>
            <a:r>
              <a:rPr b="0" lang="es-MX" sz="2400" spc="-1" strike="noStrike">
                <a:solidFill>
                  <a:srgbClr val="000000"/>
                </a:solidFill>
                <a:latin typeface="Californian FB"/>
              </a:rPr>
              <a:t>Defunciones y Muertes Fetales por lugar geográfico (entidad, municipio y localidad) de ocurrencia y residencia con la desagregación de variables que los Certificados permiten y por las más de 10,000 posibles causas de defunción; Así como las tasas correspondientes para las desagregaciones cuyo denominador es conocido y estadísticamente significativ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ts val="2699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ts val="2699"/>
              </a:lnSpc>
              <a:spcAft>
                <a:spcPts val="1599"/>
              </a:spcAft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fornian FB"/>
                <a:ea typeface="Arial"/>
              </a:rPr>
              <a:t>Proporciona la base de datos de defunciones de mujeres en edad fértil, insumo necesario para la búsqueda intencionada de muertes maternas mediante la selección de casos sospechosos (método RA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285840" y="1143000"/>
            <a:ext cx="8501040" cy="45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2999"/>
              </a:lnSpc>
              <a:spcAft>
                <a:spcPts val="601"/>
              </a:spcAft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Californian FB"/>
              </a:rPr>
              <a:t>PRINCIPALES INDICADORES GEN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9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99"/>
              </a:lnSpc>
              <a:spcBef>
                <a:spcPts val="601"/>
              </a:spcBef>
              <a:spcAft>
                <a:spcPts val="1199"/>
              </a:spcAft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fornian FB"/>
                <a:ea typeface="Arial"/>
              </a:rPr>
              <a:t>Tasa de mortalidad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99"/>
              </a:lnSpc>
              <a:spcBef>
                <a:spcPts val="601"/>
              </a:spcBef>
              <a:spcAft>
                <a:spcPts val="1199"/>
              </a:spcAft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fornian FB"/>
                <a:ea typeface="Arial"/>
              </a:rPr>
              <a:t>Tasa de mortalidad infantil y de la infa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99"/>
              </a:lnSpc>
              <a:spcBef>
                <a:spcPts val="601"/>
              </a:spcBef>
              <a:spcAft>
                <a:spcPts val="1199"/>
              </a:spcAft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fornian FB"/>
                <a:ea typeface="Arial"/>
              </a:rPr>
              <a:t>Tasa de mortalidad por cáncer cervicouterino y de m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99"/>
              </a:lnSpc>
              <a:spcBef>
                <a:spcPts val="601"/>
              </a:spcBef>
              <a:spcAft>
                <a:spcPts val="1199"/>
              </a:spcAft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fornian FB"/>
                <a:ea typeface="Arial"/>
              </a:rPr>
              <a:t>Tasa de mortalidad debida al V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99"/>
              </a:lnSpc>
              <a:spcBef>
                <a:spcPts val="601"/>
              </a:spcBef>
              <a:spcAft>
                <a:spcPts val="1199"/>
              </a:spcAft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fornian FB"/>
                <a:ea typeface="Arial"/>
              </a:rPr>
              <a:t>Principales causas de mort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299"/>
              </a:lnSpc>
              <a:spcBef>
                <a:spcPts val="601"/>
              </a:spcBef>
              <a:spcAft>
                <a:spcPts val="1199"/>
              </a:spcAft>
              <a:buClr>
                <a:srgbClr val="8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fornian FB"/>
                <a:ea typeface="Arial"/>
              </a:rPr>
              <a:t>Es la base para el cálculo de la Razón de Mortalidad Ma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13 Título"/>
          <p:cNvSpPr/>
          <p:nvPr/>
        </p:nvSpPr>
        <p:spPr>
          <a:xfrm>
            <a:off x="685800" y="2786040"/>
            <a:ext cx="7772400" cy="20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entury Schoolbook"/>
              </a:rPr>
              <a:t>GRACIAS POR SU ATEN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MX" sz="3600" spc="-1" strike="noStrike" u="sng">
                <a:solidFill>
                  <a:srgbClr val="0000ff"/>
                </a:solidFill>
                <a:uFillTx/>
                <a:latin typeface="Century Schoolbook"/>
                <a:hlinkClick r:id="rId1"/>
              </a:rPr>
              <a:t>edda_suaste@hotmail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000000"/>
                </a:solidFill>
                <a:uFillTx/>
                <a:latin typeface="Century Schoolbook"/>
              </a:rPr>
              <a:t>Departamento de Estadís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15:50:09Z</dcterms:created>
  <dc:creator>Administrat</dc:creator>
  <dc:description/>
  <dc:language>en-US</dc:language>
  <cp:lastModifiedBy>SANDRA MACEDO GONZALEZ</cp:lastModifiedBy>
  <dcterms:modified xsi:type="dcterms:W3CDTF">2015-01-08T16:54:38Z</dcterms:modified>
  <cp:revision>250</cp:revision>
  <dc:subject/>
  <dc:title>Diapositiva 1</dc:title>
</cp:coreProperties>
</file>